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8589-F42E-4DF2-91F2-81391BFF5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to these children as a result of being disaffected for many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roup drops out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7 – 8 …. “What Happened?” ---- collaboration, working together,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one, write it down so you COMM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A59-9531-441A-9774-22B1868C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D96-C143-4703-8E92-6F5F56B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2F8-F640-4FC9-8BA5-4699AFE4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319-F2AD-4E7E-B702-18491F40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B5C2-7207-4262-9C2B-C5639C5A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B52A4-E529-4EF7-B242-EDA76916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3AE68-B6A7-4DC7-9964-2296A17C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2291-2AB8-4089-8087-B4C1541A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95942-8666-48A6-A20A-F65E96A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4FA0C-FA33-4F21-B81A-95EC12C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7CA83-D390-4758-A96B-1F757C4E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3A8-F409-470A-9527-3162A547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55605-D6C3-436E-92E9-A86CC79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DDBEC-1090-49F4-BFFD-D9D58EB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1A2BD-1224-4547-8C15-10961FAC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FE36B-2432-4473-9E83-5D1134F5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01AA5-49CA-4C0D-A130-7A79CACF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19D2-7387-4904-8CED-9772B14A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C68-4F99-4534-ACC7-2B4E6295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696-2360-4057-A15B-F777E93C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641-F58F-4660-87DB-32048EDB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7E3-6F82-4D6E-BF4D-DD34396F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160-839A-4B1E-805D-B961E7A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411-AE65-440C-A047-07B4909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4C01-99BB-4CF5-A980-102076C085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A3A-313F-41B6-B93E-281D231CA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nfiction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Engaging &amp; Motivating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51814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4038480"/>
            <a:ext cx="17398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38680" y="4078440"/>
            <a:ext cx="2190960" cy="138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715000" y="4125960"/>
            <a:ext cx="211464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286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4343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ho Drop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038320" cy="129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sonalization to help disaffected student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own talents and aspi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pathway toward their own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 cooperativ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others on challenging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tain a rec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ir exploration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monstrate their l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clear standards in a variety of med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with the close support of Adult Mentors &amp; Gu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’s happening with personaliza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447920"/>
          <a:ext cx="8229600" cy="4538520"/>
        </p:xfrm>
        <a:graphic>
          <a:graphicData uri="http://schemas.openxmlformats.org/drawingml/2006/table">
            <a:tbl>
              <a:tblPr/>
              <a:tblGrid>
                <a:gridCol w="4267080"/>
                <a:gridCol w="1295640"/>
                <a:gridCol w="1371600"/>
                <a:gridCol w="1295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are happ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spend time with m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teachers like ki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talk with kids informall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play and have fu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n adult in my school I could talk to if I had a probl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0572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Johnston,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ww.middleweb.co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762120"/>
            <a:ext cx="1752840" cy="556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home point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sonaliz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wo-way communic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vital when working with disaffected learner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e3e3ff"/>
                </a:solidFill>
                <a:uFillTx/>
                <a:latin typeface="Arial"/>
              </a:rPr>
              <a:t>Collaborative Classroom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s like a helium filled hula hoop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324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ds are Different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en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at are they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65200">
            <a:off x="4420080" y="31240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ant feedback to be timely and two w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lenials See Leadership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particip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actical Strategies for At-Risk Stud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 students at the do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(do 10 out of 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ggravate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Culture in Your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–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fanfiction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ubrics… begin with the end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is more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member this?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img02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5334120"/>
            <a:ext cx="47246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629400" y="3962520"/>
            <a:ext cx="1447920" cy="13716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id you get to be as good as you ar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5840" y="1774800"/>
            <a:ext cx="6232320" cy="3319200"/>
            <a:chOff x="1455840" y="1774800"/>
            <a:chExt cx="6232320" cy="3319200"/>
          </a:xfrm>
        </p:grpSpPr>
        <p:sp>
          <p:nvSpPr>
            <p:cNvPr id="150" name="_s12297"/>
            <p:cNvSpPr/>
            <p:nvPr/>
          </p:nvSpPr>
          <p:spPr>
            <a:xfrm>
              <a:off x="3728880" y="2363760"/>
              <a:ext cx="1686240" cy="16858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2298"/>
            <p:cNvSpPr/>
            <p:nvPr/>
          </p:nvSpPr>
          <p:spPr>
            <a:xfrm>
              <a:off x="3728880" y="17748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titu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2295"/>
            <p:cNvSpPr/>
            <p:nvPr/>
          </p:nvSpPr>
          <p:spPr>
            <a:xfrm>
              <a:off x="4282920" y="3325680"/>
              <a:ext cx="1686240" cy="16858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2296"/>
            <p:cNvSpPr/>
            <p:nvPr/>
          </p:nvSpPr>
          <p:spPr>
            <a:xfrm>
              <a:off x="600228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9"/>
            <p:cNvSpPr/>
            <p:nvPr/>
          </p:nvSpPr>
          <p:spPr>
            <a:xfrm>
              <a:off x="3173400" y="3324240"/>
              <a:ext cx="1685880" cy="16858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2300"/>
            <p:cNvSpPr/>
            <p:nvPr/>
          </p:nvSpPr>
          <p:spPr>
            <a:xfrm>
              <a:off x="145584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ki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type of teacher will you b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62720" y="4029120"/>
            <a:ext cx="22669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22:12Z</dcterms:created>
  <dc:creator>Information Technology</dc:creator>
  <dc:description/>
  <dc:language>en-US</dc:language>
  <cp:lastModifiedBy>User</cp:lastModifiedBy>
  <dcterms:modified xsi:type="dcterms:W3CDTF">2010-02-16T19:09:23Z</dcterms:modified>
  <cp:revision>11</cp:revision>
  <dc:subject/>
  <dc:title>Engaging the Disaffected Learner </dc:title>
</cp:coreProperties>
</file>